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46EF-E5DD-49B6-96D6-AADD1F250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C051-041E-4D12-B582-43E6B747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4732-D744-40ED-A213-7D0CC8B67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5276-E971-4178-B6C9-A15E3BD4F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FA7B7-2E81-4ACB-B783-C68200C80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BF09-D232-425B-AD81-66D57437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81F7-6B24-4E10-809B-3E0CAD00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25FE-B423-4DCB-8C39-E87579FE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913ED-ABE2-4200-B005-45A8965E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B868-EA71-4D68-ABF0-7FBF3D7B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65E14-8046-4286-A492-948FB30D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12A5-D4BE-43DB-BCA5-9CC67B80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9364-C9A0-43CA-8B99-7E19A610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C968D-9B74-43CE-87A5-56579BAD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90DE-0F08-4564-8BC3-6125FDD6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A118-457B-43F5-81A3-860A3CA10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3C971-8E2D-4972-8B3E-782962A91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9B3B-8BA4-460E-8F5C-F5479C81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5CB5-6FF1-435F-9764-6253C34C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8753-95D1-454F-B8A5-63D20043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CD8E-3976-4B24-B8E4-3BBFDE0D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64EA-D554-4F30-A5EF-46DB71B8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8154-31E8-4DC0-BF23-E5BA1946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14A9-0C2E-4C63-BC1B-63440BB7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3288-D028-4185-B6F3-0D8416A8071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F0A6-F8DE-4ABB-8B02-0AC6DD1F655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e-class Activity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mass in kilograms of this fro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3809880" cy="28479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172200" y="2819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6 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5486400"/>
            <a:ext cx="838188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omework (Due 9/2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pages 17-19, Answer questions 6 and 8 on page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 Properties of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175248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1676520"/>
            <a:ext cx="746784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ellular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asic structure of </a:t>
            </a:r>
            <a:r>
              <a:rPr b="0" lang="en-US" sz="2800" spc="-1" strike="noStrike" u="sng">
                <a:solidFill>
                  <a:srgbClr val="6767ff"/>
                </a:solidFill>
                <a:uFillTx/>
                <a:latin typeface="Arial"/>
              </a:rPr>
              <a:t>ce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same in all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05520" y="2971800"/>
            <a:ext cx="3276360" cy="1191240"/>
          </a:xfrm>
          <a:prstGeom prst="rect">
            <a:avLst/>
          </a:prstGeom>
          <a:solidFill>
            <a:srgbClr val="cccc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mallest units capable of carrying out all life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2743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3581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876920" y="4572000"/>
            <a:ext cx="3657600" cy="2066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990720" y="3505320"/>
            <a:ext cx="30049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7 Properties of Lif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1066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intenance of a constant internal state in a changing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286000" y="3819600"/>
            <a:ext cx="5457960" cy="3038400"/>
            <a:chOff x="2286000" y="3819600"/>
            <a:chExt cx="5457960" cy="303840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5410080" y="3990960"/>
              <a:ext cx="2333880" cy="286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2"/>
            <a:stretch/>
          </p:blipFill>
          <p:spPr>
            <a:xfrm>
              <a:off x="2286000" y="3819600"/>
              <a:ext cx="1938240" cy="303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"/>
          <p:cNvSpPr/>
          <p:nvPr/>
        </p:nvSpPr>
        <p:spPr>
          <a:xfrm>
            <a:off x="1752480" y="335268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humans maintain constant body temperatu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5238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eost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7 Properties of Lif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ing organisms carry out chemical reactions to obtain energ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1600200"/>
            <a:ext cx="243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05320" y="1752480"/>
            <a:ext cx="4114800" cy="1191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m of all of chemical reactions carried out in an org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505320" y="4038480"/>
            <a:ext cx="411480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7 Properties of Lif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spons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ing organisms respond to their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7 Properties of Lif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living things can reprodu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09880" y="1752480"/>
            <a:ext cx="3886200" cy="1557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ss by which organisms make more of their own kind from one generation to the n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71800" y="2514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733920" y="4267080"/>
            <a:ext cx="1895400" cy="2362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62120" y="4495680"/>
            <a:ext cx="2543040" cy="2006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019920" y="4495680"/>
            <a:ext cx="20764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7 Properties of Lif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ere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erited traits change over gener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95480" y="1981080"/>
            <a:ext cx="3048120" cy="1191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assing of genetic traits from parents to offsp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25146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495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352680" y="4513320"/>
            <a:ext cx="312444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7 Properties of Lif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living organisms grow and many devel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and evolution are different because development occurs in the lifetime of the developing org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791320" y="4289400"/>
            <a:ext cx="274320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00:14:35Z</dcterms:created>
  <dc:creator>Dawn Pav</dc:creator>
  <dc:description/>
  <dc:language>en-US</dc:language>
  <cp:lastModifiedBy>Dawn Pav</cp:lastModifiedBy>
  <dcterms:modified xsi:type="dcterms:W3CDTF">2008-09-25T01:19:19Z</dcterms:modified>
  <cp:revision>3</cp:revision>
  <dc:subject/>
  <dc:title>Pre-class Activity 8</dc:title>
</cp:coreProperties>
</file>